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BE0-20FF-4B38-8165-05ADF0F8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C16-540C-411C-9AFF-5DDD7707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596-4E45-4E6E-B22D-91C40597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216-4CC4-4445-8559-02C70CB9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D7A9-E4DE-4F22-84F0-252C619C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5768-1C56-4862-811A-06FE5F57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4165-A85C-4B45-A782-3105BB52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8247-F184-4BE3-A774-6F535197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56D7-F4E0-438C-8B88-F87B2511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BBDD-2031-45D7-B01B-FC7ABFD0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2092-227D-403D-AE86-5552711D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BED-5C16-4F7E-BB46-64D755A5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2C49-9216-49ED-A792-254B95B0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7290-86AB-4BF3-85B5-803ACFFF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DA3F-90AB-412B-96E6-190E8129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E8C2-1048-47C8-B862-83CEA386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62EC-0197-43AC-A65E-D01C4EF9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BFA-FE48-46D4-BEAC-05AFE321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ED3-CFD4-4607-917C-ACCCFC30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FD5-FAFF-4281-88D1-1FAF9854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52B4-1243-4A0F-A5E2-F81E9BEF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67A-5D8A-495C-8D3A-32FDC546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743-2EF0-426B-93FA-B47AEA6A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8DF-5F0B-4BD1-84F1-AA145BE5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A60E-23EE-44E9-8DC0-7C97AB1E4D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DFEC-ABF1-416E-9088-B055BC83E7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images.google.com/imgres?imgurl=http://localcrank.files.wordpress.com/2009/07/ist2_4414731-sliced-bread.jpg&amp;imgrefurl=http://localcrank.wordpress.com/2009/07/07/today-in-history-15/&amp;usg=__JXLJ70oBDze68T2mU8L8YK0PHDU=&amp;h=380&amp;w=365&amp;sz=71&amp;hl=en&amp;start=5&amp;sig2=6wTV00kR1hPCq24r3ubemw&amp;um=1&amp;tbnid=cHvGCWX0ZnO09M:&amp;tbnh=123&amp;tbnw=118&amp;prev=/images%3Fq%3Dbread%26hl%3Den%26rlz%3D1G1GGLQ_ENUS344%26um%3D1&amp;ei=zHkYS_zUI8zQlAfa-ZyJAw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hyperlink" Target="http://images.google.com/imgres?imgurl=http://adminstaff.vassar.edu/sttaylor/FAMINE/PT/riots.jpg&amp;imgrefurl=http://adminstaff.vassar.edu/sttaylor/FAMINE/PT/riots.html&amp;usg=__4IQ8Wc5aBC7rWYA-wrS7X7hQ9ok=&amp;h=392&amp;w=415&amp;sz=71&amp;hl=en&amp;start=4&amp;sig2=0RudC1-3MOd6OwfhPV3_hQ&amp;tbnid=7mjmrfAhCAXx4M:&amp;tbnh=118&amp;tbnw=125&amp;prev=/images%3Fq%3Dpeasant%2Bfood%2Briots%26gbv%3D2%26ndsp%3D20%26hl%3Den%26sa%3DN&amp;ei=QH0YS9-HDIvT8QbnuZTpAw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://images.google.com/imgres?imgurl=http://needled.files.wordpress.com/2009/08/arcimboldo_vegetables.jpg&amp;imgrefurl=http://needled.wordpress.com/2009/08/&amp;usg=__TIHdP1eqbcXndGI49jISuVPnzyc=&amp;h=2000&amp;w=1504&amp;sz=682&amp;hl=en&amp;start=12&amp;sig2=X-pmMEatsAJcZpSBw107Rg&amp;tbnid=lrOtPdRTmRZ3yM:&amp;tbnh=150&amp;tbnw=113&amp;prev=/images%3Fq%3Dvegetables%26gbv%3D2%26ndsp%3D20%26hl%3Den%26sa%3DN&amp;ei=Z3wYS8CsMpHk8Aai6sTaAw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images.google.com/imgres?imgurl=http://successhealthnews.com/wp-content/uploads/2008/09/meat.jpg&amp;imgrefurl=http://successhealthnews.com/%3Fp%3D70&amp;usg=__9LCoVxuqUwKKVaXl6ZHv04_7MbM=&amp;h=350&amp;w=472&amp;sz=18&amp;hl=en&amp;start=4&amp;sig2=9tcosKgezWaxbJUxoP8ECA&amp;tbnid=VrVMNRqZDPUN7M:&amp;tbnh=96&amp;tbnw=129&amp;prev=/images%3Fq%3Dmeat%26gbv%3D2%26hl%3Den&amp;ei=GXwYS_i0FY_S8QaciujYAw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od and Medical Pract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 Fro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lan Bra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ets and Nutr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18th century, people still dependent on g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te large amounts of bread-sometimes 2 pounds a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o feel full, poor ate grains in soup, gr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In Northern Scotland, people ate half baked oatmeal-lasted in their stomach lo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56360" y="914400"/>
            <a:ext cx="17542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ic Imp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“Just price”: What the poor thought prices should be for protecting consumers and produc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Later in century, morality with prices decreases with free market economy, compet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Supply and demand favored by government, econom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Prices rise, harvests are poor-lead to food rio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Peasants, workers stop wagons, seize their g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1280" y="510552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ge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, rural in poverty ate most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ed the “poor people’s fo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s and beans ate the most, produced the most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vegetables ate in season: cabbages, carrots, wild gre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uit rare, only in summer se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533520"/>
            <a:ext cx="2057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t and H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s loved meat, eg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e less meat due to population increases-mor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transformation begins,-only Britain, Low Countries see increase in m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game laws-no hunting rabbits, dear, partri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nobles, landowners could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mb, mutton usually eaten on religious 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15200" y="52578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ch Diet (Officials, Aristocrat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“Rapacious carnivores”-dinners with many meats,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te little to no fruits, vegetables-had more sauces, sweets and che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normous overdrinking-The English squire known as “four-bottle m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Drank over long periods-not too dr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48720" y="3352680"/>
            <a:ext cx="108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ddle Class (traders, craftsman, bureaucra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Market gardens had meats, vegetables, fruits-still bread 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Northern Europe overall ate better than South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nglish generally ate more meat, French had bread and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715000" y="4495680"/>
            <a:ext cx="2819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5:57Z</dcterms:created>
  <dc:creator>MNS</dc:creator>
  <dc:description/>
  <dc:language>en-US</dc:language>
  <cp:lastModifiedBy>MNS</cp:lastModifiedBy>
  <dcterms:modified xsi:type="dcterms:W3CDTF">2009-12-04T14:03:56Z</dcterms:modified>
  <cp:revision>7</cp:revision>
  <dc:subject/>
  <dc:title>Food and Medical Practice</dc:title>
</cp:coreProperties>
</file>